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347D1-BF66-4F74-AC74-13E23412EFD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137A4-8A4A-4F23-AB02-4D8B971596D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B7493-961B-4EA2-B1DB-09D4FE6D642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3DDB-89D5-4868-AAE1-3A29EA714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15AF-04F4-41F2-BAB8-D54E0AD89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CDCB-6F76-4AB5-9706-61BC41F1E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6710-3E69-4FF2-967F-E08499979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49829-8654-4D07-B7B5-A9F97C3F2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AEDE8-487E-42A1-805E-A8C05245E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D2529-802F-4B3E-BD25-C1928A5B9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483BE-EF9F-4021-BA73-D006368F4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F7B34-F4F3-42FC-8B5C-483C507D7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369BE-1E46-4947-8849-4889E7D8D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B5F5A-1461-4A5F-8051-D4D2E51D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0671-101A-46B5-9C79-03641BCE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EA3BF-664A-4E77-A11A-DB1260EC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ABAE8-17E5-4460-9B18-AB3495D1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29F14-5D7C-440B-AD53-5E8C1B8F8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541D5-1D43-4C73-8654-4A3BB2C4A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EE70B-343B-4716-918A-0D8855638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91839-4DCF-48A8-9455-FCBC9B4FA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C10F9-2575-4B36-9AF9-8BAC502CE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A5DF7-98A4-480B-8860-CF7E44322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DBF50-6FE5-4F73-95E9-95AB41C5E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8F0FA-095F-468D-B052-25385F3CC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D375-0851-41F6-A640-AFBFF6DC6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158B6-E2D8-42E6-889F-0162FBAB0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ED09E-4D71-48CD-91D4-99FD81E6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E02D2-0E10-409E-A6B0-E6774122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D3F0D-D829-4F2F-8EF3-047A4633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9E680-EAD2-452A-A59F-8F486A8D2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52E16-6011-410B-87CB-24180D2E0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0EE50-FD4F-4869-A47D-EB5362A19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879F2-9310-4B25-9BF2-2AAF8B914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DFE3F-E1FB-477A-8368-37D27C6BD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6B4C2-0D65-4D36-B89F-1E02A0072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087C-27DB-430D-AC25-901D1194A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2ECAB-7BB4-4712-8E4E-070DA7BB5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2BB74-CB93-4AE7-83AD-FBBB6174D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BC1BA-05DB-4EFF-8CC9-BBD4E012E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89FD6-0AE0-4523-B807-2604B0E1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F59C6-6290-4990-B2A0-5D7BCC71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452D6-4CC1-4FF1-9B24-D55BEB69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F450F-AD51-4AD3-8146-1F8DC5986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25256-F8A9-4558-BB54-033231D8C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BB309-EAA7-435D-BD8F-5C1C9EF91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0FE0B-8824-42AB-B135-E51A92E18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D8B8-D538-4D2F-9271-BFF7568AE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A0FD1-9679-48EA-8E1B-2D3D44B8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A5412-69DE-4306-8C36-E130CA05A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30890-C8E8-4557-AD09-3B661E565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F4CBD-1C64-4F6F-B605-D67304002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B3598-1256-4D51-B4C6-A5C8929DE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5152A-825C-4FC1-8BF4-2DDF5514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C875F-2C7E-4D3F-AEC3-1C4B84CC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8236F-AF86-4398-B063-099DFF46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84E4A-9CE6-4547-A018-65C4917CB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F7D6C-2777-4BC8-9CEB-16B705437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CC1C-F0F4-40AA-838D-FF04F0DC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A36FD-03D3-4331-8786-01AA11E6B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A98E-2DD8-4A5F-9718-272DEFF2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17D6-70F5-4185-9ADC-BA0A9AA0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0698-F53B-45EE-9D5A-66563566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E2AB4-5343-4914-B422-6304F3ACB26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1F33F-A684-4BD2-86A8-CE02221BEEFD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7674E-2C7C-4A3F-8BEE-AEB31233E430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EAEE2-9ADC-4122-91F9-AEABB558EEC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533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9714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В.А.Власенко,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400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76D85-46A1-411F-82FC-176154FDD83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2363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озможности физической культуры как средства повышения моральной и психологической устойчивости  к экзаменационным испытаниям</a:t>
            </a:r>
            <a:br>
              <a:rPr sz="4000"/>
            </a:br>
            <a:r>
              <a:rPr b="1" lang="en-US" sz="1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ИЗ ОПЫТА РАБОТЫ ПО ПРИМЕНЕНИЮ ФОРМИРУЮЩЕГО ОЦЕНИВАНИЯ)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479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1000"/>
          </a:bodyPr>
          <a:p>
            <a:pPr marL="111600" indent="-111600"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утагарова Люция Рифовна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11600" indent="-111600"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читель физической культуры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11600" indent="-111600"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АОУ «Гимназия № 33» г. Перм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ирующее оценивание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Цель формирующей оценки - способствовать улучшению результатов каждого отдельно взятого ученика</a:t>
            </a:r>
            <a:r>
              <a:rPr b="0" lang="ru-RU" sz="48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и и ожидаемые результаты формирующего оценивания: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352440" y="1339920"/>
          <a:ext cx="8510400" cy="5227560"/>
        </p:xfrm>
        <a:graphic>
          <a:graphicData uri="http://schemas.openxmlformats.org/drawingml/2006/table">
            <a:tbl>
              <a:tblPr/>
              <a:tblGrid>
                <a:gridCol w="3003480"/>
                <a:gridCol w="5506920"/>
              </a:tblGrid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ить потребности учени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уализация знаний по теме, субъектного опы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 интереса к те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отвращение неправильного понимания вопро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ощрить саморегуляцию и сотруднич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ивание навыков к самостоятельной работе и сотрудничеству для использования разнообразных ресурсов и инструмен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ществить мониторинг прогрес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ение и самоопределение учащимися слабых сторон, подтверждение сильных и обеспечение более глубокого поним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ить понимание и поощрить метапозн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ствует применению знаний в новой ситуации, обобщению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773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Ebrima"/>
              </a:rPr>
              <a:t>Что такое формирующее оценивание или оценивание для обучения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914400" y="2428920"/>
            <a:ext cx="7772400" cy="39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ценивание это больше, чем маркировк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ценивание — это обратная связь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ценивание направляет учени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487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ирующее оценивание для </a:t>
            </a:r>
            <a:r>
              <a:rPr b="0" lang="ru-RU" sz="45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бучающихс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914400" y="2214360"/>
            <a:ext cx="777240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омогать учиться на ошибках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омогать понять, что важно;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омогать понять, что у них получается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омогать обнаруживать, что они не знают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омогать обнаруживать, что они не умеют делать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2400" cy="1559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ирующее оценивание позволяет </a:t>
            </a:r>
            <a:r>
              <a:rPr b="0" lang="ru-RU" sz="45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учителю</a:t>
            </a:r>
            <a:r>
              <a:rPr b="0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914400" y="2285640"/>
            <a:ext cx="7772400" cy="40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ко сформулировать образовательный результат, подлежащий формированию и оценке в каждом конкретном случае, и организовать в соответствии с этим свою работу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ть учащегося субъектом образовательной и оценочной деятельност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416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хнологии формирующего оценивания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 (минутный) обзор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-обзор (проводится в конце урока)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Что изучали? Назовите тему урока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С какими заданиями ты справлялся без помощи учителя, одноклассника?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пределите наиболее важное в этом уроке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Что вызвало трудности, осталось неясным?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Что хотелось бы узнать по теме дополнительно?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Что у меня получилось лучше всего?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Что мне необходимо усовершенствовать?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alibri"/>
              </a:rPr>
              <a:t>Тема урока</a:t>
            </a: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  Развитие силовых качеств. Подготовка к сдаче норм ГТО испытания «Сгибание-разгибание рук в упоре лежа» </a:t>
            </a:r>
            <a:br>
              <a:rPr sz="2400"/>
            </a:b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95280" y="13410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12760" indent="-212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Цель урока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Для учителя  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Организовать контрольно-оценочную деятельность по выявлению точечных затруднений при выполнении техники  через работу в парах и  анализ видеозаписи собственного выполнения технического действия (обязательный норматив  «Сгибание-разгибание рук в упоре лежа»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Для учащихся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Определить критерии оценивания выполнения  техники норматива ГТО  - «Сгибание-разгибание рук в упоре лежа»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Заполнить таблицу самооценки  выполнения техники  выполнении сгибания и разгибания рук в упоре лежа («Отжимания») по выработанным критериям, применяя личные гаджеты,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ыявить затруднения, для устранения ошибок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Прогнозируемый результат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Знают контрольные точки техники «Отжимания», безопасного для здоровья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Фиксируют контрольные точки у партнера при работе в парах  и определяют свои затруднения при просмотре видеозаписи собственного выполнения приседания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Умеют объективно оценивать, по выработанным критериям, технику «отжимани», безопасного для здоровья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Таблица самооценки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rcRect l="11109" t="28110" r="32367" b="14444"/>
          <a:stretch/>
        </p:blipFill>
        <p:spPr>
          <a:xfrm>
            <a:off x="826920" y="2060640"/>
            <a:ext cx="774072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7" name="Picture 2" descr=""/>
          <p:cNvPicPr/>
          <p:nvPr/>
        </p:nvPicPr>
        <p:blipFill>
          <a:blip r:embed="rId1"/>
          <a:srcRect l="26163" t="34218" r="25804" b="39724"/>
          <a:stretch/>
        </p:blipFill>
        <p:spPr>
          <a:xfrm>
            <a:off x="250920" y="620640"/>
            <a:ext cx="8497800" cy="25923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" descr=""/>
          <p:cNvPicPr/>
          <p:nvPr/>
        </p:nvPicPr>
        <p:blipFill>
          <a:blip r:embed="rId2"/>
          <a:srcRect l="24174" t="27470" r="23253" b="34798"/>
          <a:stretch/>
        </p:blipFill>
        <p:spPr>
          <a:xfrm>
            <a:off x="73080" y="2997360"/>
            <a:ext cx="9070920" cy="36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сихологическая устойчивость — это личностная черта, которая во многом определяет, насколько эффективно мы справляемся с проблемами, стрессами и давлением, независимо от обстоятельст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тресс - состояние сильного и длительного психологического напряжения, которое возникает у человека, когда его нервная система получает эмоциональную перегрузк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Развитие Физических качеств. Подготовка к сдаче норм ГТО норматив «Поднимание туловища из положения лежа»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2400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Цель урока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Для учителя  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Организовать познавательную  деятельность по выявлению точечных затруднений при выполнении норматива  ГТО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Для учащихся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ыявить затруднения в выполнении норматива ГТО по силовой подготовке «Поднимание туловища из положения лежа»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ыделить группу упражнений, направленных на подготовку учащихся к выполнению норматива ГТО по силовой подготовке.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Прогнозируемый результат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 конце урока учащиеся при выполнении различных упражнений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ыделяют группы мышц, которые задействовано в данном упражнении на станции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На основе работы мышечных групп выделяют 3 вида упражнений, при систематическом выполнении которых смогут подготовиться к результативной сдаче норм ГТО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7 станций. Работа в группах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4" name="Picture 3" descr=""/>
          <p:cNvPicPr/>
          <p:nvPr/>
        </p:nvPicPr>
        <p:blipFill>
          <a:blip r:embed="rId1"/>
          <a:srcRect l="12185" t="27470" r="21410" b="8548"/>
          <a:stretch/>
        </p:blipFill>
        <p:spPr>
          <a:xfrm>
            <a:off x="250920" y="1700280"/>
            <a:ext cx="85089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1"/>
          <a:srcRect l="35244" t="20910" r="36166" b="10192"/>
          <a:stretch/>
        </p:blipFill>
        <p:spPr>
          <a:xfrm>
            <a:off x="2340000" y="333360"/>
            <a:ext cx="453564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ИРУЮЩЕЕ ОЦЕНИВАНИЕ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28400" y="1784520"/>
            <a:ext cx="8258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ценивается не только результат, но и процесс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Носит системный характе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страивается в личностно-ориентированное обучени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Ориентировано на обучающегос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Отслеживается прогресс каждого обучающегос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Ориентировано на формирование личностных и метапредметных умени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Ebrima"/>
              </a:rPr>
              <a:t>Памятка 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Ebrima"/>
              </a:rPr>
              <a:t>по применению формирующего оценивания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914400" y="1784160"/>
            <a:ext cx="7772400" cy="47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1. 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Оцениваем п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роцесс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2. В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ыставление отметки и оценивание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– разные вещи!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3. В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ыставляя своему ученику отметку  за работу на уроке или в четверти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: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оценивае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м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его работу по определенным критериям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ученик знаком с теми критериями, по которым его оценивают (причем они доступны для его понимания)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ученик 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в процессе работы сам пытается оценить качество своей работы, сверяясь с этими критериями и получая  комментарии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учителя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ученик 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видит, где конкретно он пока не достиг нужного результата и корректирует свою деятельность, 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т.е. 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ищ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ет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пути 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коррекции 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выявленны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х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недостатк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о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Благодарю за внимание!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На психологическом и поведенческом уровнях занятия ФК полезны и могут способствовать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 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рганизации и упорядочиванию активност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иведению действий и мыслей в порядо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лучению ощущения контроля над ситуацией, дефицит которого испытывает человек во время стресс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Повышению самооценки и уверенности в себ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нятия спортом могут приносить радость и удовлетворение от достижения даже небольших результатов             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r>
              <a:rPr b="1" i="1" lang="ru-RU" sz="3200" spc="-1" strike="noStrike">
                <a:solidFill>
                  <a:srgbClr val="04617b"/>
                </a:solidFill>
                <a:latin typeface="Calibri"/>
              </a:rPr>
              <a:t>Повышение самооценки и уверенности в себе</a:t>
            </a:r>
            <a:br>
              <a:rPr sz="28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сть ли  у Вас  в работе  проблемы в оценивании обучающихся на уроках ФК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сли Да, то каки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 технология оценивания может повлиять на повышение самооценки и уверенность в себ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сть ли проблемы в работе со старшеклассницами и старшеклассниками? Какаи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059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блемы оценочной деятельности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субъективизм школьной отметки;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недостаточная разработанность критериев оценивания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существующая система оценивания отражает </a:t>
            </a:r>
            <a:r>
              <a:rPr b="0" i="1" lang="ru-RU" sz="2700" spc="-1" strike="noStrike">
                <a:solidFill>
                  <a:srgbClr val="ff0000"/>
                </a:solidFill>
                <a:latin typeface="Times New Roman"/>
                <a:ea typeface="Verdana"/>
              </a:rPr>
              <a:t>результат развития физических качеств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, а не процесс их усвоения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При оценивании техники двигательных действий зачастую ставим отметки не выделяя критерии оценивания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отсутствие в отметке конструктивной информации о том, что именно является причиной низкого или высокого балл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ункции оценивания: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68360" y="227664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ирующа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ческа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эффективнос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адекватной самооценк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мотиваци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я в межличностных отношениях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Times New Roman"/>
                <a:ea typeface="Ebrima"/>
              </a:rPr>
              <a:t>Зачем мы оцениваем?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Чтобы выяснить,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достигнуты ли поставленные учебные цели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гут ли быть разные цели у учащихся?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105264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ирующее оценивание – это…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78920" y="155700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b5edfd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Формирующее (внутреннее) оценивание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елено на определение индивидуальных достижений каждого учащегося и не предполагает как сравнения результатов, продемонстрированных разными учащимися, так и административных выводов по результатам обучения.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b5edfd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ующим данный вид оценивания называется потому, что оценка ориентирована на конкретного ученика, призвана выявить пробелы в освоении учащимся элемента содержания образования с тем, чтобы восполнить их с максимальной эффективностью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имущества критериального подхода к оцениванию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826920" y="2349360"/>
            <a:ext cx="7772400" cy="42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тревожнос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ивность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ство требовани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гранность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ение достижений учащихся с эталоном;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ответственности учащихся за результат своего труда;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самооценки, самоанализа, самоконтроля учащихся.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2T00:14:57Z</dcterms:created>
  <dc:creator>TATJANA</dc:creator>
  <dc:description/>
  <dc:language>en-US</dc:language>
  <cp:lastModifiedBy>Ljadova-NV</cp:lastModifiedBy>
  <dcterms:modified xsi:type="dcterms:W3CDTF">2019-11-18T06:51:39Z</dcterms:modified>
  <cp:revision>27</cp:revision>
  <dc:subject/>
  <dc:title>Педагогический совет по теме:  «Технология формирующего оценивания»  12.02.2015 г. МОУ СОШ №19  г. Комсомольск -  на - Амуре</dc:title>
</cp:coreProperties>
</file>